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10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5A6-34CE-4903-986B-B8512057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2D1-E280-45D3-ABB3-FF778C99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67F-1EC8-4451-8C1E-1272F35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E9A-3563-4406-834D-792B7E2B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FC20-A58E-4211-81D9-DE29C817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33C1-7C99-403E-AEFE-9BEAEE4B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9A5A-7888-4A86-9226-5DFC978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96A-8210-4F50-ABD7-1F15EA9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3BDC-2530-4F34-B663-60999727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59BF-7C33-4154-BD0F-3F827D24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F042-936B-42FC-BB54-9B5B442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A47-A7E3-4DAE-A35D-69B17FE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870-48E5-4D37-AEBF-263DB74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91A9-0E8B-4834-936A-EA81A93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D42-59B2-4176-A807-AF7DF12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2339-C373-44C5-A082-B2904E86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096-AFB4-4B72-BAC5-B93AD8CB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65A6-C0BF-4F34-BBC5-DF4CA106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48A8-0420-445D-ACB4-43E44ED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CE7D-8EED-47C3-B8E9-9ECB88E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471A-B6CD-43E6-8F83-101DFD5A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A08C-03C2-4BC1-84E5-E8DD1A45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C9B-5058-4914-8FC5-EFB6827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E232-6FB2-4B02-BE6C-E73C51C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4AD5-6550-4FDF-9312-A51FD62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9322-1A45-4A96-98FF-463953A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A778-5810-4452-BA3D-BE71B42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001D-7B59-42F1-ADC9-488227BA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1655-68FD-473C-9423-BB760D65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5B9F-459C-4A76-B9D5-EEDE941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39CC-473F-4538-8A0F-EDAA95D3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502A-0C28-47D6-941E-91CF2282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23DB-9760-41C0-B4C3-9D9D96FA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266-87F1-4D3D-8E1C-E80814D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51B9-6C7C-4A0A-9D57-9EC6604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43D2-70EB-4F9F-9286-9A16134E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FAEE-0BD4-4891-91F2-46A2CCA5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32A6-6E0B-4953-8E70-2B7F4060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DD13-433F-4D66-8C01-A45D22B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AA17-0C18-4F43-9E04-1CDF8F1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76A3-9166-41AD-A8F0-AD4992DF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E44B-2983-4A01-ABB6-63DA17B3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D44B-3579-4CDF-B04D-971A7E79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75D0-F62B-40E3-863D-D47DC16A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F78-AFFE-46F3-9C29-A5ABCFF0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5BB8-88F4-4484-9329-87EEC2D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E31F-6AE8-459E-8F7F-06106FC0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DD8B-06D8-4775-B687-F532F8A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0508-C0EE-4313-9FBB-EC6F611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6344-E772-4F4A-8D27-A321A46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70C1-982E-4F00-BECD-60152BE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F2D8-FA04-42F2-913E-A33A39A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B773-29C7-422D-87CA-252F022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32D0-D526-4873-BF14-8176D425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30CE-0B2B-43E5-BD16-BF36EF9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5D2-B68E-4A6C-B1AC-3F7005D4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902C-058E-40A9-A272-DFA4B7E9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9854-FC3E-4DC3-B6CC-DA1899E4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232F-DE3F-441A-93FA-343086D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A5FAA-DEA6-4C58-996A-6BE82FB7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23A2-6713-4E1B-A5E5-D6D6288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D7AE-881E-43FC-8BBA-A27B9792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98D3-49DD-4117-B6B3-954ABC7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DACE-7E44-4BEF-9951-1FDEF96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08E7-52C9-4C59-9C65-C04A81E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A4B3C-CA08-4DE6-BE0D-401BD2C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75B-A3E4-4619-BF7F-13B1CD3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04B8-4B2B-4F9E-BCF6-F947312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5215-048F-4441-9458-6D41B5A4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C935-96B2-45C6-9B61-23FC11E4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C08-0673-4D8E-A168-06B20BC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70F-AA94-4308-B5FD-C6DAB53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E11-8582-4D9B-8758-78EF67C88307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A9D-BAED-41C1-A1E1-2A36934E6A44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3E9-ED8A-419F-8114-835B9FBA879E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79D-C279-45FA-92BE-8526ECC0E2AD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390-78F2-43FF-B2CA-38790E2DC2E4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886-3F54-4A0B-A3DD-90C4501896F6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3" descr=""/>
          <p:cNvPicPr/>
          <p:nvPr/>
        </p:nvPicPr>
        <p:blipFill>
          <a:blip r:embed="rId1"/>
          <a:stretch/>
        </p:blipFill>
        <p:spPr>
          <a:xfrm>
            <a:off x="1889280" y="5870520"/>
            <a:ext cx="6584760" cy="493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000000"/>
                </a:solidFill>
                <a:uFillTx/>
                <a:latin typeface="Trebuchet MS"/>
              </a:rPr>
              <a:t>UN MONDE EN CHANGEM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Trebuchet MS"/>
              </a:rPr>
              <a:t>LA CHARTE CANADIENNE DES DROITS ET LIBERTÉ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z les points principaux de la Charte canadienne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Calibri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page 6. Écrivez 5 de ces points dans votre cartable. Le titre est « La Charte canadienne des droits et libertés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ensez et choisir laquelle des droits est le plus importants pour vous (et pourquoi) et choisir le droit qui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moins d’importance pour v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" descr="MCj01495110000[1]"/>
          <p:cNvPicPr/>
          <p:nvPr/>
        </p:nvPicPr>
        <p:blipFill>
          <a:blip r:embed="rId1"/>
          <a:stretch/>
        </p:blipFill>
        <p:spPr>
          <a:xfrm>
            <a:off x="3809880" y="5143680"/>
            <a:ext cx="2533680" cy="1714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 DANS TA VI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 mesure que tu vieillis, la loi t’autorise a avoir de plus en plus de pouvoir sur ta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 genre de changement surviennent en votre vi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ster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maison se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ller magasiner avec vos am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ller voire un film avec vos am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Être gardienne des enf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AND VOUS ÊTES PLUS ÂGÉE!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droit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availler au salaire minim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Obtenir le permis de condu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voir le droit de v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MCj03080590000[1]"/>
          <p:cNvPicPr/>
          <p:nvPr/>
        </p:nvPicPr>
        <p:blipFill>
          <a:blip r:embed="rId1"/>
          <a:stretch/>
        </p:blipFill>
        <p:spPr>
          <a:xfrm>
            <a:off x="7086600" y="4419720"/>
            <a:ext cx="1351080" cy="183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j0212957"/>
          <p:cNvPicPr/>
          <p:nvPr/>
        </p:nvPicPr>
        <p:blipFill>
          <a:blip r:embed="rId2"/>
          <a:stretch/>
        </p:blipFill>
        <p:spPr>
          <a:xfrm>
            <a:off x="6324480" y="205740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MCj02405310000[1]"/>
          <p:cNvPicPr/>
          <p:nvPr/>
        </p:nvPicPr>
        <p:blipFill>
          <a:blip r:embed="rId3"/>
          <a:stretch/>
        </p:blipFill>
        <p:spPr>
          <a:xfrm>
            <a:off x="3886200" y="464832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Michelle.Skead\AppData\Local\Microsoft\Windows\Temporary Internet Files\Content.IE5\ZFX8F7J5\MC900441310[1].png"/>
          <p:cNvPicPr/>
          <p:nvPr/>
        </p:nvPicPr>
        <p:blipFill>
          <a:blip r:embed="rId4"/>
          <a:stretch/>
        </p:blipFill>
        <p:spPr>
          <a:xfrm>
            <a:off x="30492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NOMISATION PERSONNEL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-ce que ça veut dire? D’être capable d’agir en fonction de ses besoins, de ses désirs, de ses opinions, de ses croyances, et de ses senti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beaucoup de choses que vous pouvez faire pour devenir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r a la page 8 tous les choses les jeunes peuvent faire pour devenir autono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A LISTE DES IDÉES IMPORTANTES JUSQU’À MAINTENANT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es gens autonomes peuvent faire des choix au sujet de leur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une personne de prendre des dé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Notre constitution nous protègent contre l’abus de pouvo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a charte canadienne des droits et libertés nous garantie les droits et les libertés les plus fondamentau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mesure que nous vieillissons, nous avons plus de pouvoir dans notre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nomisation personnelle consiste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exercer un certain contrôle sur sa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j0195812"/>
          <p:cNvPicPr/>
          <p:nvPr/>
        </p:nvPicPr>
        <p:blipFill>
          <a:blip r:embed="rId1"/>
          <a:stretch/>
        </p:blipFill>
        <p:spPr>
          <a:xfrm>
            <a:off x="228600" y="25909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Fais ton « portrait dans l’avenir » en indiquant tes objectifs personnel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utilise des mots, illustrations et des photos pour représenter la personne que tu aimerais être dans 15 ans. Utilisez l’internet, des magazines etc.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Énumérez 5 choses vous pourrez faire dans les prochaines années pour atteindre vos objectif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4" descr="MCj04058920000[1]"/>
          <p:cNvPicPr/>
          <p:nvPr/>
        </p:nvPicPr>
        <p:blipFill>
          <a:blip r:embed="rId1"/>
          <a:stretch/>
        </p:blipFill>
        <p:spPr>
          <a:xfrm>
            <a:off x="152280" y="0"/>
            <a:ext cx="1676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ES QUES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904760" y="17521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genre d’emploi au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université, collège communautaire, cours prendrez-vous pour obtenir votre emploi de choi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ù viv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i seront les personnes importantes dans votre vie? Est-ce que vous aurez des animaux domestiq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Quels seront vos loisi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les choses voulez-vous apprendre? (langue, instrument, sport etc.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  est-ce que vous serez un membre actif dans votre communa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 (un ent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, u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e, participer dans des organisations culturelles/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ieuse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EL GENRE D’EMPLOI AUREZ-VOUS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’aimerai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e une enseigna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C:\Documents and Settings\Michelle.Skead\Local Settings\Temporary Internet Files\Content.IE5\P0USHBD3\MC900029925[1].wmf"/>
          <p:cNvPicPr/>
          <p:nvPr/>
        </p:nvPicPr>
        <p:blipFill>
          <a:blip r:embed="rId1"/>
          <a:stretch/>
        </p:blipFill>
        <p:spPr>
          <a:xfrm>
            <a:off x="4419720" y="3200400"/>
            <a:ext cx="22096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ME AUDOU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ILLE D’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ALU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85800" y="1905120"/>
          <a:ext cx="7315200" cy="4336920"/>
        </p:xfrm>
        <a:graphic>
          <a:graphicData uri="http://schemas.openxmlformats.org/drawingml/2006/table">
            <a:tbl>
              <a:tblPr/>
              <a:tblGrid>
                <a:gridCol w="2394000"/>
                <a:gridCol w="1152360"/>
                <a:gridCol w="1068480"/>
                <a:gridCol w="1349280"/>
                <a:gridCol w="13510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ell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ès b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ep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omplè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ressez la liste de ques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es photos/illustrations qui représentent vos répons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c’est propre ? claire ? Effor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Rectangle 135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L’AUTONOMISATION: UN CASSE-TÊ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écouvrir les différentes formes de 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Vous allez travailler en groupe. Chaque membre de groupe devra lire et résumer UNE des formes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onc chaque personne va jouer le rôle de spécialiste d’une forme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ans vos groupes, vous déciderez qui va être spécialiste de quo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*** Chaque personne est responsable d’écrire un résumé sur leur forme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monde a toujours changé. Tu sais que tes parents et tes grands parents vivaient différemment quand ils avaient ton â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i chang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i ne change p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 pouvoir les gens ont-ils pour transformer le mon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près que tous les membres ont fini, tous les spécialistes d’autonomisation économique, politique, culturelle, sociale, nationale vont discuter ensemble pour être certaine qu’ils ont tout l’information dans leur résum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ssayer d’écrire une phrase qui résume le type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joindre votre groupe origin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MCj02512250000[1]"/>
          <p:cNvPicPr/>
          <p:nvPr/>
        </p:nvPicPr>
        <p:blipFill>
          <a:blip r:embed="rId1"/>
          <a:stretch/>
        </p:blipFill>
        <p:spPr>
          <a:xfrm>
            <a:off x="3505320" y="228600"/>
            <a:ext cx="21333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Vous allez partager votre résumé bref avec votre groupe. Être certaine que tous le monde comprend les différentes forme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Nous allons maintenant résumé ensemble les 5 forme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cinq formes d’autonomisation: économique, politique, sociale, culturelle et nation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4792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économiqu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on a assez de richesses pour satisfaire nos beso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politiqu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veut dire avoir son mot a dire dans l’organisation  des choses et dans la prise de décisions. (ex: le droit de vo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culturel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signifie vivre sa culture en toute libert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socia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tous les membres d’une société sont traités de façon juste et équ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nationa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une nation a le pouvoir de prendre des décisions pour elle-mê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676520" y="5335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Il y a cinq formes d’autonomis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4792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existe quand tous les membres d’une société sont traités de façon juste et équ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consiste a avoir son mot a dire dans l’organisation  des choses et dans la prise de décisions. (gov’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signifie pouvoir vivre sa culture en toute libert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existe quand on possède suffisamment de richesses pour satisfaire ses beso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existe quand une nation a le pouvoir de prendre des décisions pour elle-mê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6765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Quiz- 1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MPj04036190000[1]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MCj00906020000[1]"/>
          <p:cNvPicPr/>
          <p:nvPr/>
        </p:nvPicPr>
        <p:blipFill>
          <a:blip r:embed="rId2"/>
          <a:stretch/>
        </p:blipFill>
        <p:spPr>
          <a:xfrm>
            <a:off x="457200" y="3048120"/>
            <a:ext cx="2616120" cy="1903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MCFL00115_0000[1]"/>
          <p:cNvPicPr/>
          <p:nvPr/>
        </p:nvPicPr>
        <p:blipFill>
          <a:blip r:embed="rId3"/>
          <a:stretch/>
        </p:blipFill>
        <p:spPr>
          <a:xfrm>
            <a:off x="6248520" y="251460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MCBD19728_0000[1]"/>
          <p:cNvPicPr/>
          <p:nvPr/>
        </p:nvPicPr>
        <p:blipFill>
          <a:blip r:embed="rId4"/>
          <a:stretch/>
        </p:blipFill>
        <p:spPr>
          <a:xfrm rot="1137000">
            <a:off x="4800600" y="4648320"/>
            <a:ext cx="1884240" cy="1776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MCBD19932_0000[1]"/>
          <p:cNvPicPr/>
          <p:nvPr/>
        </p:nvPicPr>
        <p:blipFill>
          <a:blip r:embed="rId5"/>
          <a:stretch/>
        </p:blipFill>
        <p:spPr>
          <a:xfrm>
            <a:off x="3048120" y="1447920"/>
            <a:ext cx="2867040" cy="2627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CBD19893_0000[1]"/>
          <p:cNvPicPr/>
          <p:nvPr/>
        </p:nvPicPr>
        <p:blipFill>
          <a:blip r:embed="rId6"/>
          <a:stretch/>
        </p:blipFill>
        <p:spPr>
          <a:xfrm>
            <a:off x="1219320" y="5105520"/>
            <a:ext cx="1676160" cy="147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MCj03046870000[1]"/>
          <p:cNvPicPr/>
          <p:nvPr/>
        </p:nvPicPr>
        <p:blipFill>
          <a:blip r:embed="rId7"/>
          <a:stretch/>
        </p:blipFill>
        <p:spPr>
          <a:xfrm>
            <a:off x="533520" y="457200"/>
            <a:ext cx="1827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A DÉPENDA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usqu’à maintenant, vous avez étudié l’importance de l’autonomisation. Dans cette section vous irez apprendre ce que c’est la dépendance, c’est-à-dire l’affaiblissement de l’autonom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sans autonomie ont l’impression d’avoir peu de contrôle sur leur vie. Ils pensent qu’ils n’ont pas le pouvoir de faire des choix concernant des choses importantes pour eux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A DÉPENDANCE CONT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économique si tu n’as pas assez de l’argent pour acheter ce qui est nécessair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politique si tu ne peux pas voter, tu n’as pas ton mot dans les décision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sociale si vous n’êtes pas tous égaux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culturelle si vous ne pouviez pas pratiquer votre religion, langue, traditions etc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nationale si un autre pays fait les décisions pour votre pay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ES DROITS DE LA PERSONNE AU COURS DE L’HISTOIR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jourd’hui on parle beaucoup des droits de la perso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 Canada, les droits de la personne ont changé au fil des 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trefois, les autorités avaient le droit légal de priver un individu de ses droits fondamentaux tels que voter, posséder une terre, ou se trouver un emplo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Peu a peu les lois ont été modifiées pour rendre la société plus jus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Toutefois tous n’est pas parfait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ES ENFANTS ET LA DÉPENDANC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enfants représentent un des groupes de la société qui peut facilement perdre son autonom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arce que les adultes détiennent l’autorité dans la plupart des 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n 1990, le Canada a signe la Convention sur les droits de l’enfan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enfants ont le droit de grandir dans un foyer chaleureux, de jouer et d’être éduqu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MCj03981470000[1]"/>
          <p:cNvPicPr/>
          <p:nvPr/>
        </p:nvPicPr>
        <p:blipFill>
          <a:blip r:embed="rId1"/>
          <a:stretch/>
        </p:blipFill>
        <p:spPr>
          <a:xfrm>
            <a:off x="304920" y="152280"/>
            <a:ext cx="129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RÉFLÉCHIS!! PG. 2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828800" y="198072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Réponds aux questions suivant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Qui avait l’autorité et le pouvoir dans cette histoire? Un individu, un organisme, ou un gouvernement nationa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Ces actes ont-ils affaibli l’autonomisation de quelqu’un? Si oui, qui et comm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Si tu avais été une de ces personnes en situation d’autorité et de pouvoir, aurais-tu agi différemm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Écris ta réaction personnel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NOMIS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e c’est l’autonomisat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orsque les gens sont l’autonomes, ils peuvent faire des choix et transformer le monde s’ils croient qu’un changement est nécessa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ouvez-vous donnez une exemple?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Vous êtes autonomes! Écrire 3 choses que vous désirez changer dans la vie mainten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7"/>
          <p:cNvGrpSpPr/>
          <p:nvPr/>
        </p:nvGrpSpPr>
        <p:grpSpPr>
          <a:xfrm>
            <a:off x="533520" y="2057400"/>
            <a:ext cx="8228880" cy="4341960"/>
            <a:chOff x="533520" y="2057400"/>
            <a:chExt cx="8228880" cy="4341960"/>
          </a:xfrm>
        </p:grpSpPr>
        <p:cxnSp>
          <p:nvCxnSpPr>
            <p:cNvPr id="280" name="_s1028"/>
            <p:cNvCxnSpPr>
              <a:stCxn id="281" idx="0"/>
              <a:endCxn id="282" idx="2"/>
            </p:cNvCxnSpPr>
            <p:nvPr/>
          </p:nvCxnSpPr>
          <p:spPr>
            <a:xfrm flipV="1" rot="16200000">
              <a:off x="5653440" y="278748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9"/>
            <p:cNvCxnSpPr>
              <a:stCxn id="284" idx="0"/>
              <a:endCxn id="282" idx="2"/>
            </p:cNvCxnSpPr>
            <p:nvPr/>
          </p:nvCxnSpPr>
          <p:spPr>
            <a:xfrm flipV="1">
              <a:off x="4647600" y="3793680"/>
              <a:ext cx="3240" cy="8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30"/>
            <p:cNvCxnSpPr>
              <a:stCxn id="286" idx="0"/>
              <a:endCxn id="282" idx="2"/>
            </p:cNvCxnSpPr>
            <p:nvPr/>
          </p:nvCxnSpPr>
          <p:spPr>
            <a:xfrm flipH="1" flipV="1" rot="5400000">
              <a:off x="2773080" y="278784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031"/>
            <p:cNvSpPr/>
            <p:nvPr/>
          </p:nvSpPr>
          <p:spPr>
            <a:xfrm>
              <a:off x="3413520" y="205740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’autonomis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>
              <a:off x="53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voir du pouvo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3"/>
            <p:cNvSpPr/>
            <p:nvPr/>
          </p:nvSpPr>
          <p:spPr>
            <a:xfrm>
              <a:off x="341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ndre se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pres décis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4"/>
            <p:cNvSpPr/>
            <p:nvPr/>
          </p:nvSpPr>
          <p:spPr>
            <a:xfrm>
              <a:off x="629388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 sentir puissan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autonomes sentent qu’ils contrôlent facilement leur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peuvent faire des choix importants, comme choisir une profession ou un lieu de résid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ont l’autorité de prendre des décisions importantes et le pouvoir de les mettre en applic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RITÉ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une personne de prendre des décisions dans une situation pré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ans notre vie, il y a des gens qui ont l’autorité de prendre des décisions pour n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4" descr="MCj03596510000[1]"/>
          <p:cNvPicPr/>
          <p:nvPr/>
        </p:nvPicPr>
        <p:blipFill>
          <a:blip r:embed="rId1"/>
          <a:stretch/>
        </p:blipFill>
        <p:spPr>
          <a:xfrm>
            <a:off x="4114800" y="4572000"/>
            <a:ext cx="1587600" cy="190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 u="sng">
                <a:solidFill>
                  <a:srgbClr val="000000"/>
                </a:solidFill>
                <a:uFillTx/>
                <a:latin typeface="Calibri"/>
              </a:rPr>
              <a:t>Acquérir l’autorité</a:t>
            </a: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s gens nomment la personne pour prendre des décisions pour l’équipe/groupe. Exemple: capitaine d’une équi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 u="sng">
                <a:solidFill>
                  <a:srgbClr val="000000"/>
                </a:solidFill>
                <a:uFillTx/>
                <a:latin typeface="Calibri"/>
              </a:rPr>
              <a:t>L’autorisation Légale</a:t>
            </a: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gouvernement du Canada crée des lois que toute la population canadienne doit respecter. Nos parents et les policiers ont aussi l’autorité lég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FAIRE UNE CHAINE DE COMMANDE AVEC TON NOM AU MILIEU. QUI A L’AUTORITÉ DANS VOTRE VIE? INCLURE AU MOINS 10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Diagram 1" descr=""/>
          <p:cNvPicPr/>
          <p:nvPr/>
        </p:nvPicPr>
        <p:blipFill>
          <a:blip r:embed="rId1"/>
          <a:stretch/>
        </p:blipFill>
        <p:spPr>
          <a:xfrm>
            <a:off x="457200" y="2279520"/>
            <a:ext cx="8686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NOTRE CONSTITU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ne constitution est l’ensemble des lois que le gouvernement doit respecter. Elle nous protège contre l’abus de pouv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a charte canadienne des droits et libertés fait partie de notre constitu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lle garantie les droits et les libertés le plus fondamentaux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outes les Canadiennes et les Canadie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3:44:06Z</dcterms:created>
  <dc:creator>Administrator</dc:creator>
  <dc:description/>
  <dc:language>en-US</dc:language>
  <cp:lastModifiedBy>ED18</cp:lastModifiedBy>
  <dcterms:modified xsi:type="dcterms:W3CDTF">2013-11-18T01:34:43Z</dcterms:modified>
  <cp:revision>35</cp:revision>
  <dc:subject/>
  <dc:title>Un monde en changement</dc:title>
</cp:coreProperties>
</file>